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57CD-8AE4-49DA-A07F-6BFB7F476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0E0E-27A6-4286-A7EF-B87B0D98A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C6EA-FDB1-4715-9086-1666F1268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7E45-1068-4196-AAD8-BDB797AD8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C700-D64B-40BE-9ECB-D6D9C705E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0CE7-62E3-420D-ABF9-C0B1D00C4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989A-EDDA-41FB-9508-06A5AA408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003E-B0B8-49DB-924D-CABE5E601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CF65-D7FB-4BA2-AA46-0BEFBCE64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E8D1-CEEA-4371-B0B7-8F8EBCA7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AC7D-9E51-48B3-8EF9-11BDAB35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3591-8124-409D-A18D-440F4BB1C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B62E5-F19F-47F7-A592-A27C848BE343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1T13:12:11Z</dcterms:created>
  <dc:creator>morimoto</dc:creator>
  <dc:description/>
  <dc:language>en-US</dc:language>
  <cp:lastModifiedBy>morimoto</cp:lastModifiedBy>
  <dcterms:modified xsi:type="dcterms:W3CDTF">2007-07-11T13:12:22Z</dcterms:modified>
  <cp:revision>1</cp:revision>
  <dc:subject/>
  <dc:title>スライド 1</dc:title>
</cp:coreProperties>
</file>