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6A31-86FC-44F3-A14C-AA83ECDB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4C3-1B0A-4DF0-A491-E8555874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C4F-72E9-4D9B-BCF9-7D21E50E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5AA-500F-4F6A-97D9-47188E90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E97-CC65-4501-8995-56683534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072-E302-409D-8A73-9879D202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5F64-ECD0-4696-AA27-B96034B3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91D-5D9B-4BDF-B6FA-A376074B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BC4-D14A-4471-9B58-E5D4ABEB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999-E11B-4A0D-A5DB-38994F18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745-BFD1-4F57-B87B-35AFE228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416-375E-4F8A-BF04-90101B37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A86E-CD8D-4C03-9C46-96BD83305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wmf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%takaTeX&#13;&#10;\documentclass{jarticle}\pagestyle{empty}&#13;&#10;\begin{document}\huge&#13;&#10;$$&#13;&#10;F=ma&#13;&#10;$$&#13;&#10;\end{document}&#13;&#10;"/>
          <p:cNvPicPr/>
          <p:nvPr/>
        </p:nvPicPr>
        <p:blipFill>
          <a:blip r:embed="rId1"/>
          <a:stretch/>
        </p:blipFill>
        <p:spPr>
          <a:xfrm>
            <a:off x="2286000" y="2286000"/>
            <a:ext cx="914400" cy="195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%takaTeX&#13;&#10;\documentclass{jarticle}&#13;&#10;\usepackage{color}\pagestyle{empty}&#13;&#10;\begin{document}\LARGE\color{blue}&#13;&#10;$$&#13;&#10;Q=CV&#13;&#10;$$&#13;&#10;\end{document}&#13;&#10;"/>
          <p:cNvPicPr/>
          <p:nvPr/>
        </p:nvPicPr>
        <p:blipFill>
          <a:blip r:embed="rId2"/>
          <a:stretch/>
        </p:blipFill>
        <p:spPr>
          <a:xfrm>
            <a:off x="7238880" y="2819520"/>
            <a:ext cx="795600" cy="207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7" descr="%takaTeX&#13;&#10;\documentclass{jarticle}&#13;&#10;\usepackage{color}\pagestyle{empty}&#13;&#10;\begin{document}\LARGE\color{green}&#13;&#10;$$&#13;&#10;I=\frac{V}{R}&#13;&#10;$$&#13;&#10;\end{document}&#13;&#10;"/>
          <p:cNvPicPr/>
          <p:nvPr/>
        </p:nvPicPr>
        <p:blipFill>
          <a:blip r:embed="rId3"/>
          <a:stretch/>
        </p:blipFill>
        <p:spPr>
          <a:xfrm>
            <a:off x="1752480" y="2895480"/>
            <a:ext cx="586080" cy="470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0" descr="%takaTeX&#13;&#10;\documentclass{jarticle}&#13;&#10;\usepackage{color}\pagestyle{empty}&#13;&#10;\begin{document}\LARGE\color{blue}&#13;&#10;$$&#13;&#10;U = \int F\cdot d\ell&#13;&#10;$$&#13;&#10;\end{document}&#13;&#10;"/>
          <p:cNvPicPr/>
          <p:nvPr/>
        </p:nvPicPr>
        <p:blipFill>
          <a:blip r:embed="rId4"/>
          <a:stretch/>
        </p:blipFill>
        <p:spPr>
          <a:xfrm>
            <a:off x="6705720" y="5943600"/>
            <a:ext cx="1172880" cy="31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6" descr="%takaTeX&#13;&#10;\documentclass{jarticle}&#13;&#10;\usepackage{color}\pagestyle{empty}&#13;&#10;\begin{document}\LARGE\color{black}&#13;&#10;$$&#13;&#10;Q=CV&#13;&#10;$$&#13;&#10;\end{document}&#13;&#10;"/>
          <p:cNvPicPr/>
          <p:nvPr/>
        </p:nvPicPr>
        <p:blipFill>
          <a:blip r:embed="rId5"/>
          <a:stretch/>
        </p:blipFill>
        <p:spPr>
          <a:xfrm>
            <a:off x="4572000" y="5638680"/>
            <a:ext cx="795240" cy="208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6" descr="%takaTeX&#13;&#10;\documentclass{jarticle}&#13;&#10;\usepackage{color}\pagestyle{empty}&#13;&#10;\begin{document}\LARGE\color{black}&#13;&#10;\pagecolor{yellow}&#13;&#10;$$&#13;&#10;a_n=\int_0^{2\pi} f(x)\sin(nx)dx&#13;&#10;$$&#13;&#10;\end{document}&#13;&#10;"/>
          <p:cNvPicPr/>
          <p:nvPr/>
        </p:nvPicPr>
        <p:blipFill>
          <a:blip r:embed="rId6"/>
          <a:stretch/>
        </p:blipFill>
        <p:spPr>
          <a:xfrm>
            <a:off x="2438280" y="3886200"/>
            <a:ext cx="2206800" cy="36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7" descr="%takaTeX&#13;&#10;\documentclass{jarticle}&#13;&#10;\usepackage{color}\pagestyle{empty}&#13;&#10;\begin{document}\LARGE\color{blue}&#13;&#10;\pagecolor{yellow}&#13;&#10;$$&#13;&#10;b_n=\int_{0}^{2\pi} f(x)\cos(nx)dx&#13;&#10;$$&#13;&#10;\end{document}&#13;&#10;"/>
          <p:cNvPicPr/>
          <p:nvPr/>
        </p:nvPicPr>
        <p:blipFill>
          <a:blip r:embed="rId7"/>
          <a:stretch/>
        </p:blipFill>
        <p:spPr>
          <a:xfrm>
            <a:off x="4648320" y="762120"/>
            <a:ext cx="3809880" cy="63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%takaTeX&#13;&#10;\documentclass{jarticle}&#13;&#10;\usepackage{color}\pagestyle{empty}&#13;&#10;\begin{document}\LARGE\color{black}&#13;&#10;taka\TeX&#13;&#10;\end{document}&#13;&#10;"/>
          <p:cNvPicPr/>
          <p:nvPr/>
        </p:nvPicPr>
        <p:blipFill>
          <a:blip r:embed="rId8"/>
          <a:stretch/>
        </p:blipFill>
        <p:spPr>
          <a:xfrm>
            <a:off x="914400" y="3581280"/>
            <a:ext cx="782640" cy="22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%takaTeX&#13;&#10;\documentclass{jarticle}&#13;&#10;\usepackage{color}\pagestyle{empty}&#13;&#10;\begin{document}\Huge\color{blue}&#13;&#10;taka\TeX&#13;&#10;\end{document}&#13;&#10;"/>
          <p:cNvPicPr/>
          <p:nvPr/>
        </p:nvPicPr>
        <p:blipFill>
          <a:blip r:embed="rId9"/>
          <a:stretch/>
        </p:blipFill>
        <p:spPr>
          <a:xfrm>
            <a:off x="2514600" y="2797200"/>
            <a:ext cx="4114800" cy="1165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1" descr="%takaTeX&#13;&#10;\documentclass{jarticle}&#13;&#10;\usepackage{color}\pagestyle{empty}&#13;&#10;\begin{document}\LARGE\color{black}&#13;&#10;$$&#13;&#10;c=\frac{1}{\sqrt{\varepsilon_0\mu_0}}&#13;&#10;$$&#13;&#10;\end{document}&#13;&#10;"/>
          <p:cNvPicPr/>
          <p:nvPr/>
        </p:nvPicPr>
        <p:blipFill>
          <a:blip r:embed="rId10"/>
          <a:stretch/>
        </p:blipFill>
        <p:spPr>
          <a:xfrm>
            <a:off x="3352680" y="609480"/>
            <a:ext cx="978120" cy="54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3" descr="%takaTeX&#13;&#10;\documentclass{jarticle}&#13;&#10;\usepackage{color}\pagestyle{empty}&#13;&#10;\begin{document}\LARGE\color{red}&#13;&#10;$$&#13;&#10;\nabla\times E = -\frac{\partial B}{\partial t}&#13;&#10;$$&#13;&#10;\end{document}&#13;&#10;"/>
          <p:cNvPicPr/>
          <p:nvPr/>
        </p:nvPicPr>
        <p:blipFill>
          <a:blip r:embed="rId11"/>
          <a:stretch/>
        </p:blipFill>
        <p:spPr>
          <a:xfrm>
            <a:off x="3809880" y="1981080"/>
            <a:ext cx="1424160" cy="484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%takaTeX&#13;&#10;\documentclass{jarticle}&#13;&#10;\usepackage{color}\pagestyle{empty}&#13;&#10;\begin{document}\LARGE\color{blue}&#13;&#10;$$&#13;&#10;\nabla\cdot D = \rho&#13;&#10;$$&#13;&#10;\end{document}&#13;&#10;"/>
          <p:cNvPicPr/>
          <p:nvPr/>
        </p:nvPicPr>
        <p:blipFill>
          <a:blip r:embed="rId12"/>
          <a:stretch/>
        </p:blipFill>
        <p:spPr>
          <a:xfrm>
            <a:off x="7010280" y="3886200"/>
            <a:ext cx="941400" cy="222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%takaTeX&#13;&#10;\documentclass{jarticle}&#13;&#10;\usepackage{color}\pagestyle{empty}&#13;&#10;\begin{document}\LARGE\color{black}&#13;&#10;\pagecolor{green}&#13;&#10;$$&#13;&#10;\nabla\cdot B = 0&#13;&#10;$$&#13;&#10;\end{document}&#13;&#10;"/>
          <p:cNvPicPr/>
          <p:nvPr/>
        </p:nvPicPr>
        <p:blipFill>
          <a:blip r:embed="rId13"/>
          <a:stretch/>
        </p:blipFill>
        <p:spPr>
          <a:xfrm>
            <a:off x="609480" y="2438280"/>
            <a:ext cx="914400" cy="17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7" descr="%takaTeX&#13;&#10;\documentclass{jarticle}&#13;&#10;\usepackage{color}\pagestyle{empty}&#13;&#10;\begin{document}\LARGE\color{red}&#13;&#10;\pagecolor{white}&#13;&#10;$$&#13;&#10;F(\omega)=\int_{-\infty}^{\infty} f(x) e^{i\omega t} dt&#13;&#10;$$&#13;&#10;\end{document}&#13;&#10;"/>
          <p:cNvPicPr/>
          <p:nvPr/>
        </p:nvPicPr>
        <p:blipFill>
          <a:blip r:embed="rId14"/>
          <a:stretch/>
        </p:blipFill>
        <p:spPr>
          <a:xfrm>
            <a:off x="4781520" y="4257720"/>
            <a:ext cx="2076480" cy="314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9" descr="%takaTeX&#13;&#10;\documentclass{jarticle}&#13;&#10;\usepackage{color}\pagestyle{empty}&#13;&#10;\begin{document}\LARGE\color{black}&#13;&#10;\pagecolor{white}&#13;&#10;$$&#13;&#10;f(t)=\frac{1}{2\pi}\int_{-\infty}^{\infty} &#13;&#10;F(\omega) e^{-i\omega t} d\omega&#13;&#10;$$&#13;&#10;\end{document}&#13;&#10;"/>
          <p:cNvPicPr/>
          <p:nvPr/>
        </p:nvPicPr>
        <p:blipFill>
          <a:blip r:embed="rId15"/>
          <a:stretch/>
        </p:blipFill>
        <p:spPr>
          <a:xfrm>
            <a:off x="914400" y="1371600"/>
            <a:ext cx="2521080" cy="46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1" descr="%takaTeX&#13;&#10;\documentclass{jarticle}&#13;&#10;\usepackage{color}\pagestyle{empty}&#13;&#10;\begin{document}\LARGE\color{black}&#13;&#10;$$&#13;&#10;F(\phi, k)=\int_0^\phi &#13;&#10;\frac{d\theta}{\sqrt{1-k^2\sin^2\theta}}&#13;&#10;$$&#13;&#10;\end{document}&#13;&#10;"/>
          <p:cNvPicPr/>
          <p:nvPr/>
        </p:nvPicPr>
        <p:blipFill>
          <a:blip r:embed="rId16"/>
          <a:stretch/>
        </p:blipFill>
        <p:spPr>
          <a:xfrm>
            <a:off x="5715000" y="1828800"/>
            <a:ext cx="2548080" cy="520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3"/>
          <p:cNvSpPr/>
          <p:nvPr/>
        </p:nvSpPr>
        <p:spPr>
          <a:xfrm>
            <a:off x="1375920" y="4952880"/>
            <a:ext cx="63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数式を書くための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ドイン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. 0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7/5/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1" descr="%takaTeX&#13;&#10;\documentclass{jarticle}&#13;&#10;\usepackage{color}\pagestyle{empty}&#13;&#10;\begin{document}\LARGE\color{black}&#13;&#10;$$&#13;&#10;png&#13;&#10;$$&#13;&#10;\end{document}&#13;&#10;"/>
          <p:cNvPicPr/>
          <p:nvPr/>
        </p:nvPicPr>
        <p:blipFill>
          <a:blip r:embed="rId17"/>
          <a:stretch/>
        </p:blipFill>
        <p:spPr>
          <a:xfrm>
            <a:off x="2340000" y="1052640"/>
            <a:ext cx="365040" cy="155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4" descr="%takaTeX&#13;&#10;\documentclass{jarticle}&#13;&#10;\usepackage{color}\pagestyle{empty}&#13;&#10;\begin{document}\LARGE\color{black}&#13;&#10;$$&#13;&#10;bmp&#13;&#10;$$&#13;&#10;\end{document}&#13;&#10;"/>
          <p:cNvPicPr/>
          <p:nvPr/>
        </p:nvPicPr>
        <p:blipFill>
          <a:blip r:embed="rId18"/>
          <a:stretch/>
        </p:blipFill>
        <p:spPr>
          <a:xfrm>
            <a:off x="1763640" y="765000"/>
            <a:ext cx="393840" cy="20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7" descr="%takaTeX&#13;&#10;\documentclass{jarticle}&#13;&#10;\usepackage{color}\pagestyle{empty}&#13;&#10;\begin{document}\LARGE\color{red}&#13;&#10;$$&#13;&#10;EPS&#13;&#10;$$&#13;&#10;\end{document}&#13;&#10;"/>
          <p:cNvPicPr/>
          <p:nvPr/>
        </p:nvPicPr>
        <p:blipFill>
          <a:blip r:embed="rId19"/>
          <a:stretch/>
        </p:blipFill>
        <p:spPr>
          <a:xfrm>
            <a:off x="900000" y="981000"/>
            <a:ext cx="482760" cy="165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%takaTeX&#13;&#10;\documentclass{jarticle}&#13;&#10;\usepackage{color}\pagestyle{empty}&#13;&#10;\begin{document}\LARGE\color{green}&#13;&#10;$$&#13;&#10;\nabla\times H = J+\frac{\partial D}{\partial t}&#13;&#10;$$&#13;&#10;\end{document}&#13;&#10;"/>
          <p:cNvPicPr/>
          <p:nvPr/>
        </p:nvPicPr>
        <p:blipFill>
          <a:blip r:embed="rId20"/>
          <a:stretch/>
        </p:blipFill>
        <p:spPr>
          <a:xfrm>
            <a:off x="684360" y="4292640"/>
            <a:ext cx="1685880" cy="484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%takaTeX&#13;&#10;\documentclass{jarticle}&#13;&#10;\usepackage{color}\pagestyle{empty}&#13;&#10;\begin{document}\LARGE\color{black}&#13;&#10;$$&#13;&#10;k^2=\omega^2\varepsilon_0\mu_0&#13;&#10;$$&#13;&#10;\end{document}&#13;&#10;"/>
          <p:cNvPicPr/>
          <p:nvPr/>
        </p:nvPicPr>
        <p:blipFill>
          <a:blip r:embed="rId21"/>
          <a:stretch/>
        </p:blipFill>
        <p:spPr>
          <a:xfrm>
            <a:off x="1116000" y="5805360"/>
            <a:ext cx="1109520" cy="2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aTeX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概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アドインとして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X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数式を記述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画面に貼り付け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X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ostscrip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BA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呼び出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貼り付けられた画像ファイルを選択して起動すると、元のソースコードが表示されて編集可能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プロパティの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代替テキスト にソースコードが含まれ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パイルに使用した全ての命令が含ま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システム要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X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一式がインストールされてい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のコマンド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マンドラインで実行できる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ip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win3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ostscrip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出力デバイスとし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galpha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サポートしている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.7.07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.8.5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以降が必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 PowerPoin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あ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インストールの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のいずれかの方法でアドインファイルをインストー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ドインファイル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aTeX.ppa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各ユーザーのオフィスアドインディレクトリにコピー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XP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ら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:\Documents and Settings\&lt;UserName&gt;\Application Data\Microsoft\Add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プレゼンテーション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ってアドインファイルとして保存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]→[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名前を付けて保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、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ルの種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ドイ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選び、そのまま保存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メニューにある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ツー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]→[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ドイ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参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選び、上で保存したアドインを選択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ニューリストに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aTeX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登録され、使用可能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使用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ニューに登録された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aTeX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ボタンを押してフォームを開き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数式を書いて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ボタンを押すと、 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ipsk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ostscrip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順番に実行されて、画像が画面左上に貼り付け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ファイルの形式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g, bmp, ep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選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g, ep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背景が透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mp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バージョンにかかわらず、同じ表示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解像度がフォーム上で指定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ドインのソースコードはこのファイルに含まれており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B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上またはマクロとしても実行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28" descr="%takaTeX&#13;&#10;\documentclass{jarticle}&#13;&#10;\usepackage{color}\pagestyle{empty}&#13;&#10;\begin{document}\LARGE\color{black}&#13;&#10;$$&#13;&#10;E=mc^2&#13;&#10;$$&#13;&#10;\end{document}&#13;&#10;"/>
          <p:cNvPicPr/>
          <p:nvPr/>
        </p:nvPicPr>
        <p:blipFill>
          <a:blip r:embed="rId1"/>
          <a:stretch/>
        </p:blipFill>
        <p:spPr>
          <a:xfrm>
            <a:off x="1752480" y="1066680"/>
            <a:ext cx="8226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間ファイルが環境変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示されるディレクトリにできるが、自動的には削除されない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%\takatmp.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Point 2000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は透過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g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の表示がかす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形式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とき、解像度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はビットマップになるが、解像度を上げるとアウトラインにな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出力デバイ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swrit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仕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改変、配布は自由で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28"/>
          <p:cNvSpPr/>
          <p:nvPr/>
        </p:nvSpPr>
        <p:spPr>
          <a:xfrm>
            <a:off x="3674160" y="5486400"/>
            <a:ext cx="42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ahiro Morimot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Akihiro Morimoto,  2007/5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08:38:07Z</dcterms:created>
  <dc:creator>morimoto</dc:creator>
  <dc:description/>
  <dc:language>en-US</dc:language>
  <cp:lastModifiedBy>morimoto</cp:lastModifiedBy>
  <dcterms:modified xsi:type="dcterms:W3CDTF">2012-07-17T06:05:30Z</dcterms:modified>
  <cp:revision>206</cp:revision>
  <dc:subject>TeX で PowerPoint に数式を描く</dc:subject>
  <dc:title>takaTeX ソースマクロ</dc:title>
</cp:coreProperties>
</file>